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7.png" ContentType="image/png"/>
  <Override PartName="/ppt/media/image26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7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5.png" ContentType="image/png"/>
  <Override PartName="/ppt/media/image10.jpeg" ContentType="image/jpeg"/>
  <Override PartName="/ppt/media/image30.jpeg" ContentType="image/jpeg"/>
  <Override PartName="/ppt/media/image3.png" ContentType="image/png"/>
  <Override PartName="/ppt/media/image1.png" ContentType="image/png"/>
  <Override PartName="/ppt/media/image2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0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036C-5F22-4614-B456-41F868352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5A28-7B14-4A28-BA20-E889B2F0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A270-27E2-472D-9ACC-90CC61636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22D-92DD-4CB1-A630-C1415071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E434-5C5D-4F2B-A5B2-4346D92D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D827-78D3-4494-B6E3-A46EF335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D1E-DFEC-43F7-883C-38CF78D7A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B83D-06F3-4D48-AB92-D654BC23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F95-2D8B-4D05-BD84-1508498C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631F-CF41-42EC-839A-93EEF55F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501-108B-46FC-83DA-CA5EFC75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BF4-F05E-4DB4-AE40-6114CC83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223D-E58B-4849-8202-6D7CE5990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google.com/educators/p_docs.html" TargetMode="External"/><Relationship Id="rId2" Type="http://schemas.openxmlformats.org/officeDocument/2006/relationships/hyperlink" Target="http://www.google.com/educators/index.html" TargetMode="External"/><Relationship Id="rId3" Type="http://schemas.openxmlformats.org/officeDocument/2006/relationships/hyperlink" Target="http://www.google.com/educators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docs.google.com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9640800" y="7112160"/>
            <a:ext cx="520920" cy="507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8800" y="3723840"/>
            <a:ext cx="6502320" cy="4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Google Doc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98800" y="4282560"/>
            <a:ext cx="6502320" cy="91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d7d7d"/>
                </a:solidFill>
                <a:latin typeface="Arial"/>
              </a:rPr>
              <a:t>An Overview for Edu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52320" y="3759120"/>
            <a:ext cx="1901880" cy="768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6383160" y="6670800"/>
            <a:ext cx="367524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Writing for an authentic audienc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50960" y="6000840"/>
            <a:ext cx="8658000" cy="1206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825480" y="6076800"/>
            <a:ext cx="85089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Publish a document to make it visible to an authentic audience: parents, peers, and fri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You can even publish directly to your blo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2"/>
          <a:stretch/>
        </p:blipFill>
        <p:spPr>
          <a:xfrm>
            <a:off x="579600" y="1417680"/>
            <a:ext cx="9145440" cy="41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98800" y="3200400"/>
            <a:ext cx="65023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Not just documents…</a:t>
            </a:r>
            <a:br>
              <a:rPr sz="3300"/>
            </a:br>
            <a:br>
              <a:rPr sz="3300"/>
            </a:b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Spreadsheets and presentations,</a:t>
            </a:r>
            <a:br>
              <a:rPr sz="3300"/>
            </a:b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too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Online spreadshee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96800" y="1722600"/>
            <a:ext cx="899640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preadsheet forms simplify data collec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754200" y="6338880"/>
            <a:ext cx="8567640" cy="10414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98480" y="6411960"/>
            <a:ext cx="8453520" cy="5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Create a survey or poll in a few easy step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Your respondents’ data appears in your spreadsheet as they fill it ou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2"/>
          <a:stretch/>
        </p:blipFill>
        <p:spPr>
          <a:xfrm>
            <a:off x="717480" y="1160640"/>
            <a:ext cx="4232520" cy="4987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3"/>
          <a:stretch/>
        </p:blipFill>
        <p:spPr>
          <a:xfrm>
            <a:off x="5719680" y="2035080"/>
            <a:ext cx="4029120" cy="3490920"/>
          </a:xfrm>
          <a:prstGeom prst="rect">
            <a:avLst/>
          </a:prstGeom>
          <a:ln w="0">
            <a:noFill/>
          </a:ln>
        </p:spPr>
      </p:pic>
      <p:sp>
        <p:nvSpPr>
          <p:cNvPr id="92" name="Freeform 8"/>
          <p:cNvSpPr/>
          <p:nvPr/>
        </p:nvSpPr>
        <p:spPr>
          <a:xfrm>
            <a:off x="5089680" y="3138480"/>
            <a:ext cx="500040" cy="814320"/>
          </a:xfrm>
          <a:custGeom>
            <a:avLst/>
            <a:gdLst/>
            <a:ahLst/>
            <a:rect l="l" t="t" r="r" b="b"/>
            <a:pathLst>
              <a:path w="21600" h="22715">
                <a:moveTo>
                  <a:pt x="0" y="6165"/>
                </a:moveTo>
                <a:lnTo>
                  <a:pt x="10427" y="6165"/>
                </a:lnTo>
                <a:cubicBezTo>
                  <a:pt x="10427" y="6165"/>
                  <a:pt x="10412" y="1031"/>
                  <a:pt x="10427" y="985"/>
                </a:cubicBezTo>
                <a:cubicBezTo>
                  <a:pt x="10427" y="0"/>
                  <a:pt x="11410" y="995"/>
                  <a:pt x="11410" y="995"/>
                </a:cubicBezTo>
                <a:lnTo>
                  <a:pt x="21600" y="11345"/>
                </a:lnTo>
                <a:cubicBezTo>
                  <a:pt x="21600" y="11345"/>
                  <a:pt x="11413" y="21669"/>
                  <a:pt x="11413" y="21691"/>
                </a:cubicBezTo>
                <a:cubicBezTo>
                  <a:pt x="10263" y="22715"/>
                  <a:pt x="10427" y="21705"/>
                  <a:pt x="10427" y="21705"/>
                </a:cubicBezTo>
                <a:lnTo>
                  <a:pt x="10427" y="16526"/>
                </a:lnTo>
                <a:lnTo>
                  <a:pt x="0" y="16526"/>
                </a:lnTo>
                <a:lnTo>
                  <a:pt x="0" y="6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Online presentation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750960" y="5978520"/>
            <a:ext cx="8658000" cy="1197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825480" y="6053040"/>
            <a:ext cx="850896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You can import existing PowerPoint presentations or create new ones from scr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Insert images and videos, and format your slides to fit your prefere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Publish and embed your presentations in a website, allowing access to a wide audie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2"/>
          <a:stretch/>
        </p:blipFill>
        <p:spPr>
          <a:xfrm>
            <a:off x="1795320" y="1335240"/>
            <a:ext cx="64357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tudents can chat while others are presenting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50960" y="6286680"/>
            <a:ext cx="8658000" cy="11966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825480" y="6357960"/>
            <a:ext cx="850896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One student talked aloud while everyone listened and chatted about the presentation… For the first time I can EVER remember as a teacher - 100% of the students were engaged in the presentation and participated in the chat. The students were enthusiastic and offered insightful and appropriate comments.“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        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- Computer Applications teacher, Beaverton, O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1536840" y="1270080"/>
            <a:ext cx="671328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Example Exercise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192560" y="1404720"/>
            <a:ext cx="524520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Journal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Essays (individual or co-edited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ollaborative research papers (history, geography, scienc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ollaborative book repor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Creative writing (script writing, poetry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Writing portfoli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Spreadshe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Stock portfolio (live data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Graphs, charts, and data presentation techniqu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c3c3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c3c3c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Presenting group research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3c3c3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c3c3c"/>
                </a:solidFill>
                <a:latin typeface="Arial"/>
              </a:rPr>
              <a:t>Active student participation during a present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003320" y="1390680"/>
            <a:ext cx="2232000" cy="1644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984240" y="5389560"/>
            <a:ext cx="2270160" cy="1746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1003320" y="3325680"/>
            <a:ext cx="225108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Makes planning and admin tasks easier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771480" y="6624720"/>
            <a:ext cx="8605800" cy="7524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847800" y="6702480"/>
            <a:ext cx="84628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Teachers create and share lesson plans, meeting notes, and contact information in Google Do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687240" y="1316160"/>
            <a:ext cx="5667480" cy="4730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"/>
          <p:cNvPicPr/>
          <p:nvPr/>
        </p:nvPicPr>
        <p:blipFill>
          <a:blip r:embed="rId3"/>
          <a:stretch/>
        </p:blipFill>
        <p:spPr>
          <a:xfrm>
            <a:off x="3638520" y="2395440"/>
            <a:ext cx="540396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02920" y="3095640"/>
            <a:ext cx="9110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Visit the </a:t>
            </a:r>
            <a:r>
              <a:rPr b="0" lang="en-US" sz="33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Google Docs pag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on the </a:t>
            </a:r>
            <a:r>
              <a:rPr b="0" lang="en-US" sz="33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oogle for Educators site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to get other Google Docs resources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google.com/educato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4"/>
          <a:stretch/>
        </p:blipFill>
        <p:spPr>
          <a:xfrm>
            <a:off x="3997440" y="422280"/>
            <a:ext cx="19922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Google Doc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762120" y="6073920"/>
            <a:ext cx="8636040" cy="1060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833400" y="6151680"/>
            <a:ext cx="849312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oogle Docs</a:t>
            </a: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 is a free, web-based word processor, spreadsheet and presentation tool that allows you to </a:t>
            </a: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create and edit documents from anywhere and collaborate with multiple people at the sam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1905120" y="1104840"/>
            <a:ext cx="63500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nywhere access &amp; collaboration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19280" y="5407200"/>
            <a:ext cx="8721720" cy="1958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808200" y="5573880"/>
            <a:ext cx="858204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Google Docs is differ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Documents are saved online and can be accessed from any computer with an Internet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Collaboration: Multiple people can work together on the same document. No need to email documents back and for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1969920" y="1224000"/>
            <a:ext cx="4610160" cy="36748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3"/>
          <a:stretch/>
        </p:blipFill>
        <p:spPr>
          <a:xfrm>
            <a:off x="3370320" y="1841400"/>
            <a:ext cx="4767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782800" y="2571840"/>
            <a:ext cx="22320" cy="3905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998800" y="3266640"/>
            <a:ext cx="6502320" cy="9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c3c3c"/>
                </a:solidFill>
                <a:latin typeface="Arial"/>
              </a:rPr>
              <a:t>How Google Docs helps educators and student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ccess documents from anywher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17480" y="5094360"/>
            <a:ext cx="8721720" cy="19605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743040" y="5251320"/>
            <a:ext cx="85834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udents can work from both school and home since documents are stored securely on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All you need is browser and internet connection, no software version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No more “I forgot my work” exc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3324240" y="1933560"/>
            <a:ext cx="327672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Saves changes automatically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708120" y="5103720"/>
            <a:ext cx="8751960" cy="22827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973080" y="5297400"/>
            <a:ext cx="8251920" cy="10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Google Docs saves automatically, on a regular basis. Each change is tracked as a new revision. You can see exactly what’s been revised, by whom, and w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523800" y="1427040"/>
            <a:ext cx="9145800" cy="3370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1166760" y="6237360"/>
            <a:ext cx="754848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300" spc="-1" strike="noStrike">
                <a:solidFill>
                  <a:srgbClr val="3c3c3c"/>
                </a:solidFill>
                <a:latin typeface="Arial"/>
              </a:rPr>
              <a:t>Teachers are able to individually assess student participation and content using the revision tab on Google Docs to see how editing is proceeding and to encourage students as they work.”         - Technology coordinator, Lafayette, C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3c3c3c"/>
                </a:solidFill>
                <a:latin typeface="Arial"/>
              </a:rPr>
              <a:t>Collaboration gets students excited and engag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762120" y="6035760"/>
            <a:ext cx="8636040" cy="1392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844560" y="6154560"/>
            <a:ext cx="8348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udents love it, no more coaxing kids to do their writing assignments. They beg to go to the computer lab to work on a collaborative assignment with their partner.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03030"/>
                </a:solidFill>
                <a:latin typeface="Arial"/>
              </a:rPr>
              <a:t>- High School Journalism teacher, Palo Alto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1168560" y="1270080"/>
            <a:ext cx="789300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Add collaborators to documents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730080" y="5724360"/>
            <a:ext cx="8699760" cy="1758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074600" y="5915160"/>
            <a:ext cx="803124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After students invite you to their document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Arial"/>
              </a:rPr>
              <a:t>you can review, comment, and grade their work at any ti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03030"/>
                </a:solidFill>
                <a:latin typeface="Arial"/>
              </a:rPr>
              <a:t>it's hard for students to tell fibs when you can see their work at all tim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03030"/>
                </a:solidFill>
                <a:latin typeface="Arial"/>
              </a:rPr>
              <a:t>Also, students can work together on projects and get peer feedback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6" descr=""/>
          <p:cNvPicPr/>
          <p:nvPr/>
        </p:nvPicPr>
        <p:blipFill>
          <a:blip r:embed="rId2"/>
          <a:stretch/>
        </p:blipFill>
        <p:spPr>
          <a:xfrm>
            <a:off x="496800" y="1676520"/>
            <a:ext cx="914580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52240" y="452520"/>
            <a:ext cx="9055080" cy="4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3c3c3c"/>
                </a:solidFill>
                <a:latin typeface="Arial"/>
              </a:rPr>
              <a:t>Folders organize your students’ work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71480" y="6153120"/>
            <a:ext cx="8588520" cy="1236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839880" y="6226200"/>
            <a:ext cx="84801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Folders keep student work organ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0303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Arial"/>
              </a:rPr>
              <a:t>Standard naming schemes allow you to sort by “Name” to easily find a class peri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976320" y="1316160"/>
            <a:ext cx="793440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C Minarik</cp:lastModifiedBy>
  <dcterms:modified xsi:type="dcterms:W3CDTF">2011-04-12T01:23:02Z</dcterms:modified>
  <cp:revision>1</cp:revision>
  <dc:subject/>
  <dc:title>PowerPoint Presentation</dc:title>
</cp:coreProperties>
</file>